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B782-D201-4C55-B253-E522B1852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7624-0F95-4B3B-8F2E-B202854E41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0302-816D-490B-96E8-E85CBC1D83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BFEA-5EA5-4CC5-9B1B-BA437DB406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ms-MY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96E9-A8D7-46CC-B513-22D1B8DB6E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C65-144D-4E3C-B652-F8C36DF4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54D-8532-46F3-B95F-F6231B65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1A2-9D25-4E71-A496-4689DB533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4A31-041B-4A45-9F7A-109F402C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6F7B-251B-485F-86E7-484FDB40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FEF2-1A88-418A-BEBC-FC63B6D2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9303-F235-4258-A110-CD67F30C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A189-591B-47C0-95B8-18E36C37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F6DB-0431-4D5C-94DE-B4EFE436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6708-0632-4DA6-AB58-12E372C4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214B-3426-4943-96F0-2659F404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EDE8-3AD5-42D1-9537-92A8CDB4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7E09-F2B3-4149-A917-546486CD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BD61-9BE7-41A7-9422-83DB07C3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4A24-19CB-46F0-96C2-16180ED7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3C7C-0431-4AD3-8B1B-66F4C998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0C09-FA92-4D2D-8755-625FF2CF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F667B-D14A-4B45-BEE0-192DCD86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30063-11A7-40E7-BD2F-151545DB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6D2B-5875-465A-846E-51D1F6B7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F9A35-7435-4235-ABEE-9ADA3ED5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DB26E-C41F-4F83-8BA7-6A819A0E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64F-F3F9-485D-A329-FD8263F7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C6E5C-1A3F-420B-A4CD-A1A97840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A8589-89A8-4AC5-90E8-96BA56D1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DA14-2D68-45A4-893E-15CDB421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BCD8-3A86-4507-8123-EFAB3A28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5A695-543A-4F75-BF62-DC224FB8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B018-8355-48D6-98B6-D1D28FA1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EB09-85BD-4ABA-BDD2-503C7C1E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EA0B6-002C-49AB-85BF-735753F0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FA4E6-8257-433A-B45C-72AF0760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B1070-1A51-4FF7-B34D-83F6ADB3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C16-F01B-4DDB-BEFE-FED94CBD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EF7B-A874-4E7B-9597-4BE97A32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2876-52B9-4D37-811F-5D8F40B7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456DA-A0E9-4DD5-868F-D28325E1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FC7D1-1F99-4DE3-9BF5-5467AB89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5454C-2434-4C91-9B70-0DA2A732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C3DB5-7FE8-41B3-8AE0-9E10C815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36FB3-3BBE-4990-B6B7-08532986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DE2F7-42F2-4197-B0AA-C138C36A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B348D-9B54-45FC-9250-57EBEEB9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E39A6-CF63-425E-88BE-29A0FF4E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5402-DD9F-4087-A7EC-EE4C0AB2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0ADAD-5D9C-4182-A2B5-C303F194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E1F2C-BB57-452E-B643-3A14BB76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464B8-19D0-4016-BCAD-B051176C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66A91-DACB-40B0-B050-20252DBC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4A03B-117E-40BA-94FF-6D84D7734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B6CBA-0061-4669-B522-3C7745BE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9BD3D-4ABF-480D-9B2B-867AC2FA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F8150-BFD6-4C3A-9CFC-53C02AA0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69A80-FBD2-42E1-92AF-D04FF723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F82BE-69A6-4A15-A377-C819CA1B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7A8-FF5D-4106-A5CB-F42E1C6A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BBA92-568D-428A-9DB5-A4B28080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9A701-FFDE-453F-9FEF-893C5A04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92EB2-B54A-460C-A592-3193C545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E4C13-78C2-4251-863F-97A5A8BA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41870-3D55-4F0F-9CF8-0329D19C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C7818-CA05-4733-BD0F-A0A959E6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C93B0-9248-420D-BD60-5A3D76DF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087B7-9EE1-4D04-BC4A-DD1AA500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4B9B9-B0E8-417F-9CEC-4A6B7BCA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5EBBC-8380-4BE2-A503-42A9A579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51C-4BF0-4E3E-B8F5-A781B66A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4F8C5-F433-4B0E-8A5D-4E6A32BD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4CC86-5F1C-42F8-8B5F-06CC266E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28A83-E60F-4235-A7FB-54B34E5A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69DCF-D2F0-49E3-B230-204835406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38B53-D4E8-4ECB-B3E7-D7B0102A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B9467-9BC0-48EE-870B-0FB22947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37D5A-8FE1-40FD-B2EE-4EB13525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61A23-3F9C-4097-9FAA-ACE1DAB1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211B8-FA3F-4613-BAC7-74F3BE0A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DF4F2-587F-4AB8-B6C2-CD908C95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88F6-42EB-47E7-B0CB-48B64F0D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95FB3-E49D-41D7-AF4B-23901191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98264-454F-485C-A52E-A33766C6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50894E-FF71-4B88-9AA1-B8F8011C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41D70-EA2C-4B24-8CD0-78A75546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B744B-DFAB-4DAC-AAB4-6138F82B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140-5FCA-45F5-9BEA-7EC20F82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55CD-EAB6-4881-8E31-1EA8A63383F7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8F8E-9BA9-47D9-B363-BE3374B39D91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0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53BE-0C8C-4D8E-90D6-E4BBE2A21F9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0105-7E8F-43E1-819F-1709D6FA8E5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CD9B-7478-44CE-8D57-97D0BE28F02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C626-4278-4776-B4C0-E9CB0A457B8D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27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E5FB-E4B0-4287-9514-D115BDAAF32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5" descr=""/>
          <p:cNvPicPr/>
          <p:nvPr/>
        </p:nvPicPr>
        <p:blipFill>
          <a:blip r:embed="rId2"/>
          <a:stretch/>
        </p:blipFill>
        <p:spPr>
          <a:xfrm>
            <a:off x="2127240" y="596880"/>
            <a:ext cx="4809960" cy="81756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6" descr=""/>
          <p:cNvPicPr/>
          <p:nvPr/>
        </p:nvPicPr>
        <p:blipFill>
          <a:blip r:embed="rId3"/>
          <a:stretch/>
        </p:blipFill>
        <p:spPr>
          <a:xfrm>
            <a:off x="701640" y="1335240"/>
            <a:ext cx="7753320" cy="1347480"/>
          </a:xfrm>
          <a:prstGeom prst="rect">
            <a:avLst/>
          </a:prstGeom>
          <a:ln w="0">
            <a:noFill/>
          </a:ln>
        </p:spPr>
      </p:pic>
      <p:sp>
        <p:nvSpPr>
          <p:cNvPr id="331" name="Rounded Rectangle 8"/>
          <p:cNvSpPr/>
          <p:nvPr/>
        </p:nvSpPr>
        <p:spPr>
          <a:xfrm>
            <a:off x="3581280" y="4495680"/>
            <a:ext cx="2057400" cy="1828800"/>
          </a:xfrm>
          <a:prstGeom prst="roundRect">
            <a:avLst>
              <a:gd name="adj" fmla="val 16667"/>
            </a:avLst>
          </a:prstGeom>
          <a:solidFill>
            <a:srgbClr val="f2a4a7"/>
          </a:solidFill>
          <a:ln w="63360">
            <a:solidFill>
              <a:srgbClr val="ffffff"/>
            </a:solidFill>
            <a:miter/>
          </a:ln>
          <a:effectLst>
            <a:outerShdw dist="3816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Rectangle 9" descr=""/>
          <p:cNvPicPr/>
          <p:nvPr/>
        </p:nvPicPr>
        <p:blipFill>
          <a:blip r:embed="rId4"/>
          <a:stretch/>
        </p:blipFill>
        <p:spPr>
          <a:xfrm>
            <a:off x="835200" y="3181320"/>
            <a:ext cx="7553160" cy="1092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2" descr="150px-Intel-logo.svg.png"/>
          <p:cNvPicPr/>
          <p:nvPr/>
        </p:nvPicPr>
        <p:blipFill>
          <a:blip r:embed="rId5"/>
          <a:stretch/>
        </p:blipFill>
        <p:spPr>
          <a:xfrm>
            <a:off x="5029200" y="4724280"/>
            <a:ext cx="1428840" cy="943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250px-AMD_Logo.svg.png"/>
          <p:cNvPicPr/>
          <p:nvPr/>
        </p:nvPicPr>
        <p:blipFill>
          <a:blip r:embed="rId6"/>
          <a:stretch/>
        </p:blipFill>
        <p:spPr>
          <a:xfrm>
            <a:off x="2133720" y="4952880"/>
            <a:ext cx="2381040" cy="457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200px-IBM_logo.svg.png"/>
          <p:cNvPicPr/>
          <p:nvPr/>
        </p:nvPicPr>
        <p:blipFill>
          <a:blip r:embed="rId7"/>
          <a:stretch/>
        </p:blipFill>
        <p:spPr>
          <a:xfrm>
            <a:off x="2666880" y="5715000"/>
            <a:ext cx="1600200" cy="639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5" descr="200px-Freescale_Semiconductor_logo.svg.png"/>
          <p:cNvPicPr/>
          <p:nvPr/>
        </p:nvPicPr>
        <p:blipFill>
          <a:blip r:embed="rId8"/>
          <a:stretch/>
        </p:blipFill>
        <p:spPr>
          <a:xfrm>
            <a:off x="3581280" y="4114800"/>
            <a:ext cx="1905120" cy="5810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6" descr="235px-Microchip_logo.svg.png"/>
          <p:cNvPicPr/>
          <p:nvPr/>
        </p:nvPicPr>
        <p:blipFill>
          <a:blip r:embed="rId9"/>
          <a:stretch/>
        </p:blipFill>
        <p:spPr>
          <a:xfrm>
            <a:off x="4876920" y="5715000"/>
            <a:ext cx="13302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3" descr=""/>
          <p:cNvPicPr/>
          <p:nvPr/>
        </p:nvPicPr>
        <p:blipFill>
          <a:blip r:embed="rId2"/>
          <a:stretch/>
        </p:blipFill>
        <p:spPr>
          <a:xfrm>
            <a:off x="1335240" y="298440"/>
            <a:ext cx="6278400" cy="1481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 txBox="1"/>
          <p:nvPr/>
        </p:nvSpPr>
        <p:spPr>
          <a:xfrm>
            <a:off x="990720" y="1294920"/>
            <a:ext cx="794376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objective of this course is to make the students understand with a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wide range of topic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the area of computer architectur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focusing on performanc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th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hardware/software 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emphasis is on studying and analyzing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fundamental issu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 architecture design and their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impact on computer performan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3" descr=""/>
          <p:cNvPicPr/>
          <p:nvPr/>
        </p:nvPicPr>
        <p:blipFill>
          <a:blip r:embed="rId2"/>
          <a:stretch/>
        </p:blipFill>
        <p:spPr>
          <a:xfrm>
            <a:off x="1547640" y="298440"/>
            <a:ext cx="5853240" cy="14810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990720" y="1294920"/>
            <a:ext cx="7943760" cy="43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course provide the organization and architecture of modern-day computers, emphasizing both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fundamental princip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th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ritical role of performanc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driving computer design. Emphasis will be placed on the function and operation of th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entral Processing Uni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It will also cover the organization of other components of a computer system such as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busses, internal memory, external memory and I/O devic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 how they all work together to form a functioning computer syste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5" descr=""/>
          <p:cNvPicPr/>
          <p:nvPr/>
        </p:nvPicPr>
        <p:blipFill>
          <a:blip r:embed="rId2"/>
          <a:stretch/>
        </p:blipFill>
        <p:spPr>
          <a:xfrm>
            <a:off x="2359080" y="298440"/>
            <a:ext cx="4230720" cy="148104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11" descr=""/>
          <p:cNvPicPr/>
          <p:nvPr/>
        </p:nvPicPr>
        <p:blipFill>
          <a:blip r:embed="rId3"/>
          <a:stretch/>
        </p:blipFill>
        <p:spPr>
          <a:xfrm>
            <a:off x="1822320" y="4340160"/>
            <a:ext cx="2987640" cy="7621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13"/>
          <p:cNvSpPr/>
          <p:nvPr/>
        </p:nvSpPr>
        <p:spPr>
          <a:xfrm>
            <a:off x="1981080" y="5105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Minimum 8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981080" y="1447920"/>
            <a:ext cx="6705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Saturday: 2 – 5 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Dewan Seminar 06, PPS New Buil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Conta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oom 5 JKEES, FKAB (near JKEES Off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Email: nash@eng.ukm.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Tel: 03-89216324 (0ff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6" descr=""/>
          <p:cNvPicPr/>
          <p:nvPr/>
        </p:nvPicPr>
        <p:blipFill>
          <a:blip r:embed="rId2"/>
          <a:stretch/>
        </p:blipFill>
        <p:spPr>
          <a:xfrm>
            <a:off x="450720" y="378000"/>
            <a:ext cx="8474040" cy="14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2413080" y="1371600"/>
          <a:ext cx="4902120" cy="2219400"/>
        </p:xfrm>
        <a:graphic>
          <a:graphicData uri="http://schemas.openxmlformats.org/drawingml/2006/table">
            <a:tbl>
              <a:tblPr/>
              <a:tblGrid>
                <a:gridCol w="2997000"/>
                <a:gridCol w="1905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igh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1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Quizz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% -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1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% -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1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d-sem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% - 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SzPct val="10281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% - 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48" name="TextBox 3"/>
          <p:cNvSpPr/>
          <p:nvPr/>
        </p:nvSpPr>
        <p:spPr>
          <a:xfrm>
            <a:off x="170640" y="449568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e shall assign you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054320" y="4572000"/>
          <a:ext cx="3108600" cy="1854360"/>
        </p:xfrm>
        <a:graphic>
          <a:graphicData uri="http://schemas.openxmlformats.org/drawingml/2006/table">
            <a:tbl>
              <a:tblPr/>
              <a:tblGrid>
                <a:gridCol w="3108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Quiz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ssig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d-Semester 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nal Ex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914400" y="484812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William Stallings, Computer Organization and Architecture, 6th Ed., Prentice Hall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ayes J. P., Computer Architecture and Organization, 3rd Ed., McGraw-Hill, New York.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anenbaum, A.S., Structured Computer Organization, 4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ition, Prentice Hall, 199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Rectangle 8" descr=""/>
          <p:cNvPicPr/>
          <p:nvPr/>
        </p:nvPicPr>
        <p:blipFill>
          <a:blip r:embed="rId2"/>
          <a:stretch/>
        </p:blipFill>
        <p:spPr>
          <a:xfrm>
            <a:off x="2584440" y="225360"/>
            <a:ext cx="3925800" cy="1481040"/>
          </a:xfrm>
          <a:prstGeom prst="rect">
            <a:avLst/>
          </a:prstGeom>
          <a:ln w="0">
            <a:noFill/>
          </a:ln>
        </p:spPr>
      </p:pic>
      <p:pic>
        <p:nvPicPr>
          <p:cNvPr id="352" name="Rectangle 9" descr=""/>
          <p:cNvPicPr/>
          <p:nvPr/>
        </p:nvPicPr>
        <p:blipFill>
          <a:blip r:embed="rId3"/>
          <a:stretch/>
        </p:blipFill>
        <p:spPr>
          <a:xfrm>
            <a:off x="298440" y="987480"/>
            <a:ext cx="1365120" cy="76212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10" descr=""/>
          <p:cNvPicPr/>
          <p:nvPr/>
        </p:nvPicPr>
        <p:blipFill>
          <a:blip r:embed="rId4"/>
          <a:stretch/>
        </p:blipFill>
        <p:spPr>
          <a:xfrm>
            <a:off x="1127160" y="4108320"/>
            <a:ext cx="1847880" cy="7621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6"/>
          <p:cNvSpPr/>
          <p:nvPr/>
        </p:nvSpPr>
        <p:spPr>
          <a:xfrm>
            <a:off x="1676520" y="120816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uthor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Hennessy and Patt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itl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omputer Architecture: A Quantitativ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dition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007,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ＭＳ ゴシック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ublisher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lsevier Science and Technology 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3" descr=""/>
          <p:cNvPicPr/>
          <p:nvPr/>
        </p:nvPicPr>
        <p:blipFill>
          <a:blip r:embed="rId2"/>
          <a:stretch/>
        </p:blipFill>
        <p:spPr>
          <a:xfrm>
            <a:off x="2127240" y="378000"/>
            <a:ext cx="4840200" cy="148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"/>
          <p:cNvGraphicFramePr/>
          <p:nvPr/>
        </p:nvGraphicFramePr>
        <p:xfrm>
          <a:off x="1006560" y="1371600"/>
          <a:ext cx="7680240" cy="5315040"/>
        </p:xfrm>
        <a:graphic>
          <a:graphicData uri="http://schemas.openxmlformats.org/drawingml/2006/table">
            <a:tbl>
              <a:tblPr/>
              <a:tblGrid>
                <a:gridCol w="298440"/>
                <a:gridCol w="896760"/>
                <a:gridCol w="336600"/>
                <a:gridCol w="1233720"/>
                <a:gridCol w="3512880"/>
                <a:gridCol w="1028880"/>
                <a:gridCol w="372960"/>
              </a:tblGrid>
              <a:tr h="2379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ee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Lectur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 Oct 20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rod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r. Nasharuddin Za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5 Oct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rodu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2 Oct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9 Oct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 Nov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truction Set Architecture (IS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9 Nov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mory Address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6 Nov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PS Archite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 Semester Ex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7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24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rtual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31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peli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7 Jan 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rallel Process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14 Jan 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/O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Version: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Sem break: 21 - 27 Nov 2011 &amp; 16 - 26 Dec 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6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xam starts : 27 Jan 2012 – 19 Feb 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08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2:05:27Z</dcterms:created>
  <dc:creator>Pusat Komputer</dc:creator>
  <dc:description/>
  <dc:language>en-US</dc:language>
  <cp:lastModifiedBy>Zainal Nasharuddin</cp:lastModifiedBy>
  <dcterms:modified xsi:type="dcterms:W3CDTF">2011-10-08T04:56:07Z</dcterms:modified>
  <cp:revision>91</cp:revision>
  <dc:subject/>
  <dc:title>Computer Organization  and Architecture</dc:title>
</cp:coreProperties>
</file>